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png" ContentType="image/png"/>
  <Override PartName="/ppt/media/image26.jpeg" ContentType="image/jpeg"/>
  <Override PartName="/ppt/media/image5.jpeg" ContentType="image/jpeg"/>
  <Override PartName="/ppt/media/image32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29.png" ContentType="image/png"/>
  <Override PartName="/ppt/media/image6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1595-3ADA-476A-ADEB-6FA96B7E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613C-325D-4413-9E31-12F5A6CA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FC5C-FB41-45BB-B3F1-353959DF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6A3B-B716-4C38-80AE-D92C2167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44D6-8FED-4F6C-85B0-E417416E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0636-62A4-4F0C-B65C-93803E55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F2E4-84C8-40BE-A3AB-C989F9DC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F896-3C9C-4E69-B76D-A78AB45D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D038-C7DF-4299-BDBE-879887B2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66A4-7D8D-43E1-8715-49EFB845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CAC1-5FB6-496B-8BD4-060AD601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6035-FE50-4CB9-A6A4-B996B591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3D46-9DCE-4732-BDA6-F0F4FE7B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B9BB-1859-4999-BF38-A02E35B5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1193-3DA4-4C18-8BBD-F3C7B1B6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8E48-3104-44D0-A874-0F18B5634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E907-1D4F-4FC1-848D-FF1F924F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6B75-7FCD-4EF5-9ABC-0AB4CFAA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C894-5416-49C7-B51C-55945556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5D5E-8268-4DAB-9C50-C763BC98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787E-5039-448A-9B9F-F9970891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68D3-4D7A-476C-9ABD-48EFAD67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A696-9475-4B49-B823-7C52C85E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28BF-FDAD-4A33-A1C4-3A86D50C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4AB4-BF77-4F45-8F14-8B7E7AA36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strtegic1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AB54-F315-4CA8-A690-3D7917A186B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n.wikipedia.org/wiki/Image:Gen_William_C_Westmoreland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epts.washington.edu/labpics/repository/v/antiwar/lonidier/slide0061_image084.jpg.html?g2_imageViewsIndex=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depts.washington.edu/labpics/repository/main.php?g2_itemId=4526&amp;g2_GALLERYSID=TMP_SESSION_ID_DI_NOISSES_PMT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depts.washington.edu/labpics/repository/main.php?g2_itemId=5485&amp;g2_GALLERYSID=TMP_SESSION_ID_DI_NOISSES_PMT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vesphoto.com/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19.2:  Vietnam Divides the Na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1.  The Tet Offensiv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95280" y="1142640"/>
            <a:ext cx="3733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tnam’s New Ye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-long peace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erals being held during this time = easy at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ths due to attac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 Vietcong - 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 US - 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tory? For who? 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ericans realize war is a unwinn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257800" y="19810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ter Cronk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3594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building"/>
          <p:cNvPicPr/>
          <p:nvPr/>
        </p:nvPicPr>
        <p:blipFill>
          <a:blip r:embed="rId1"/>
          <a:stretch/>
        </p:blipFill>
        <p:spPr>
          <a:xfrm>
            <a:off x="98280" y="0"/>
            <a:ext cx="904572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22" name="Picture 3" descr="20040920apadams_450"/>
          <p:cNvPicPr/>
          <p:nvPr/>
        </p:nvPicPr>
        <p:blipFill>
          <a:blip r:embed="rId1"/>
          <a:stretch/>
        </p:blipFill>
        <p:spPr>
          <a:xfrm>
            <a:off x="0" y="139680"/>
            <a:ext cx="911844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2.  Public Opinion on Wa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74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Tet Off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-46296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%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-46296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%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w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et Off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-46296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-46296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w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% war mishand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 mistake to go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1320" y="1981080"/>
            <a:ext cx="374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Portrait of Lyndon B. Johnson"/>
          <p:cNvPicPr/>
          <p:nvPr/>
        </p:nvPicPr>
        <p:blipFill>
          <a:blip r:embed="rId1"/>
          <a:stretch/>
        </p:blipFill>
        <p:spPr>
          <a:xfrm>
            <a:off x="5270400" y="1676520"/>
            <a:ext cx="30956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latuffjohnsonbody"/>
          <p:cNvPicPr/>
          <p:nvPr/>
        </p:nvPicPr>
        <p:blipFill>
          <a:blip r:embed="rId1"/>
          <a:stretch/>
        </p:blipFill>
        <p:spPr>
          <a:xfrm>
            <a:off x="2125800" y="6480"/>
            <a:ext cx="48924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3.  A Season of Violence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(1968)</a:t>
            </a:r>
            <a:endParaRPr b="0" lang="en-US" sz="2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371600" y="19810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ch:  Johnson announces he will not seek a second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ril:  MLK assassinate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A communities responded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iots; 46 d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    June:  Robert Kennedy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assi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   August:  Democratic National Convention; Chicago; Mayor Da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7620120" y="1447920"/>
            <a:ext cx="1274760" cy="2011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6080040" y="1752480"/>
            <a:ext cx="1347840" cy="17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7148520" y="3584520"/>
            <a:ext cx="1378080" cy="1889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4"/>
          <a:stretch/>
        </p:blipFill>
        <p:spPr>
          <a:xfrm>
            <a:off x="5864400" y="3584520"/>
            <a:ext cx="1284120" cy="188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"/>
          <p:cNvPicPr/>
          <p:nvPr/>
        </p:nvPicPr>
        <p:blipFill>
          <a:blip r:embed="rId5"/>
          <a:stretch/>
        </p:blipFill>
        <p:spPr>
          <a:xfrm>
            <a:off x="5153040" y="5526000"/>
            <a:ext cx="1852560" cy="1320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"/>
          <p:cNvPicPr/>
          <p:nvPr/>
        </p:nvPicPr>
        <p:blipFill>
          <a:blip r:embed="rId6"/>
          <a:stretch/>
        </p:blipFill>
        <p:spPr>
          <a:xfrm>
            <a:off x="7085160" y="5526000"/>
            <a:ext cx="173988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Mayor Richard J. Dale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38" name="Picture 3" descr="Chicago_Mayor_Daley_crop"/>
          <p:cNvPicPr/>
          <p:nvPr/>
        </p:nvPicPr>
        <p:blipFill>
          <a:blip r:embed="rId1"/>
          <a:stretch/>
        </p:blipFill>
        <p:spPr>
          <a:xfrm>
            <a:off x="2971800" y="1365120"/>
            <a:ext cx="4024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40" name="Picture 3" descr="Outside the Democratic National Convention in Chicago, 1968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42" name="Picture 3" descr="1917_1"/>
          <p:cNvPicPr/>
          <p:nvPr/>
        </p:nvPicPr>
        <p:blipFill>
          <a:blip r:embed="rId1"/>
          <a:stretch/>
        </p:blipFill>
        <p:spPr>
          <a:xfrm>
            <a:off x="0" y="426960"/>
            <a:ext cx="921708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hicago"/>
          <p:cNvPicPr/>
          <p:nvPr/>
        </p:nvPicPr>
        <p:blipFill>
          <a:blip r:embed="rId1"/>
          <a:stretch/>
        </p:blipFill>
        <p:spPr>
          <a:xfrm>
            <a:off x="0" y="368280"/>
            <a:ext cx="916632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A.  An Antiwar Movement Emerges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371600" y="1981080"/>
            <a:ext cx="4191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contain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 66% in fav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24% opp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9966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hearings – informing the Senate on military strate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3733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68-chicago"/>
          <p:cNvPicPr/>
          <p:nvPr/>
        </p:nvPicPr>
        <p:blipFill>
          <a:blip r:embed="rId1"/>
          <a:stretch/>
        </p:blipFill>
        <p:spPr>
          <a:xfrm>
            <a:off x="-1440" y="380880"/>
            <a:ext cx="91468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residential Election 1968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bert Humphrey (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chard M. Nixon 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5" descr="Hubert Humphrey"/>
          <p:cNvPicPr/>
          <p:nvPr/>
        </p:nvPicPr>
        <p:blipFill>
          <a:blip r:embed="rId1"/>
          <a:stretch/>
        </p:blipFill>
        <p:spPr>
          <a:xfrm>
            <a:off x="1752480" y="1905120"/>
            <a:ext cx="2908440" cy="360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Richard Nixon"/>
          <p:cNvPicPr/>
          <p:nvPr/>
        </p:nvPicPr>
        <p:blipFill>
          <a:blip r:embed="rId2"/>
          <a:stretch/>
        </p:blipFill>
        <p:spPr>
          <a:xfrm>
            <a:off x="4952880" y="1371600"/>
            <a:ext cx="3741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3.  General Westmoreland:</a:t>
            </a:r>
            <a:br>
              <a:rPr sz="3600"/>
            </a:b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“enemy’s hopes are bankrupt”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ed large # of tro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1967 &gt;500,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ing room war:       Media 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edibility gap effect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rge Kennan – American diplomat:  Vietnam not strategically important to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200px-Gen_William_C_Westmorelan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0080" y="1828800"/>
            <a:ext cx="3353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4.  “Teach-ins”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and teachers skipped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ther to discuss the wrongs of the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vil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ing a dictato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7" descr="mt11do95"/>
          <p:cNvPicPr/>
          <p:nvPr/>
        </p:nvPicPr>
        <p:blipFill>
          <a:blip r:embed="rId1"/>
          <a:stretch/>
        </p:blipFill>
        <p:spPr>
          <a:xfrm>
            <a:off x="5334120" y="1730520"/>
            <a:ext cx="335268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5.  Vietnam Soldiers &amp; the Draft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implemented; most in combat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g. age 19; 21-26 WW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roportionately AA,  Latino, and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LK criticizes high # of AA (13%, 10%, 2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e man’s wa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ing soldiers pro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56360" y="19810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3809880" cy="24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?id=725X1342&amp;site=ofamerica"/>
          <p:cNvPicPr/>
          <p:nvPr/>
        </p:nvPicPr>
        <p:blipFill>
          <a:blip r:embed="rId2"/>
          <a:stretch/>
        </p:blipFill>
        <p:spPr>
          <a:xfrm>
            <a:off x="5334120" y="4343400"/>
            <a:ext cx="358128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5.  Vietnam Soldiers &amp; the Draft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. Burn draft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. Leave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 Serve jail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.  2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mendment – voting rights for 18 y/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7" descr="Burning draft car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1066680"/>
            <a:ext cx="3448080" cy="2274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Picket sign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032360"/>
            <a:ext cx="3919320" cy="2597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mai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3429000"/>
            <a:ext cx="2579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6.  Doves vs. Hawk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24382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 Opposed war &amp; wanted troops to withdraw from Vietnam</a:t>
            </a: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Should continue &amp; increase force in Vietn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doves"/>
          <p:cNvPicPr/>
          <p:nvPr/>
        </p:nvPicPr>
        <p:blipFill>
          <a:blip r:embed="rId2"/>
          <a:stretch/>
        </p:blipFill>
        <p:spPr>
          <a:xfrm>
            <a:off x="1905120" y="1981080"/>
            <a:ext cx="2282760" cy="2814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120544043_3770cbc7a1"/>
          <p:cNvPicPr/>
          <p:nvPr/>
        </p:nvPicPr>
        <p:blipFill>
          <a:blip r:embed="rId3"/>
          <a:stretch/>
        </p:blipFill>
        <p:spPr>
          <a:xfrm>
            <a:off x="5029200" y="3389400"/>
            <a:ext cx="373392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B.  1968: </a:t>
            </a:r>
            <a:br>
              <a:rPr sz="4400"/>
            </a:b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The Pivotal Yea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419720" y="3580920"/>
            <a:ext cx="39607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86950"/>
                </a:solidFill>
                <a:latin typeface="Times New Roman"/>
              </a:rPr>
              <a:t>The worst year of the 1960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-763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Times New Roman"/>
              </a:rPr>
              <a:t>The Tet Offensive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15" name="Tet_Offensive.asf" descr=""/>
          <p:cNvPicPr/>
          <p:nvPr/>
        </p:nvPicPr>
        <p:blipFill>
          <a:blip r:embed="rId1"/>
          <a:stretch/>
        </p:blipFill>
        <p:spPr>
          <a:xfrm>
            <a:off x="69840" y="685800"/>
            <a:ext cx="9051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PER</cp:lastModifiedBy>
  <dcterms:modified xsi:type="dcterms:W3CDTF">2012-04-30T01:25:02Z</dcterms:modified>
  <cp:revision>25</cp:revision>
  <dc:subject/>
  <dc:title>PowerPoint Presentation</dc:title>
</cp:coreProperties>
</file>